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B9D4-9CB5-4C18-8613-557B33C3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02B-2382-4B8E-AA3F-46A479E7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2FA-A176-473D-A665-6341ACDB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368-53FF-47C5-AD51-76853139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EA74-9577-442A-8BAC-20645099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5325-EC1B-4BEB-92FD-F0421F4D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7FFC-D39C-449A-9112-2C55AE77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84A2-712B-4746-853F-386CEBF7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CEFF-0D97-4CDB-A9EF-57B98D0C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11CE-738C-4FE3-970D-3C746C22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2DF0-C551-49AA-9C91-BD98C292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D8B-7DA9-4F1B-A680-6BB4DEC9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7F26-FF6A-4DDB-BCE6-773B5288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425A-7BCF-4625-B14C-D111A263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3914-2EC2-425E-8BDD-E56C49AA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C991-5D73-413A-B7F5-11B13EB4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73E0-9C00-4523-8C74-9635D347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C684-DE93-4C0C-94CE-F4A3EDDE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E020-ECA4-4BF7-9A39-806A2976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C66-E1C3-489A-806E-F836B043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ABA-9566-4F34-8AB8-1586DBE0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DBF-6071-4FE2-8FE0-78C08F92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F048-EDF9-4A90-A51D-7A65B466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BD1-B71F-49E9-88FD-E6D1914F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D94D-C475-4CFC-8958-4634965A05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6310-EB3A-46D6-A1F5-6A2B2145D54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989840" cy="18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Desobediencia organizada y caída del Estado excluyen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rgu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353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A fines del siglo XIX y en las primeras décadas del XX, quienes padecían la exclusión comenzaron, de distintas maneras, a alterar el orden creado por las oligarquí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2.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“rotos” tenias razones: la exclusión ya no solo significaba dejarlos al margen de una realidad de privilegios, sino perjudicarlos y, a través del monopolio del Estado, darles sanción institucional, en todo el territorio, a las situaciones de miseria y explot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rgu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3.</a:t>
            </a: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n la misma medida en que los “rotos”, a través de sus organizaciones y huelgas, cuando no por su simple presencia, comenzaron a hacerse cada vez más visibles y molestos en el orden que las oligarquías habían creado y querían preservar, fueron siendo brutalmente reprimi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La ilusión de la legitim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1885 voto un 3,2 % de la población total; un 3,6 en 1888; un 8,6 en 1912 y un 4,4 en 1920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te numero de votantes bastaba a las oligarquías de la época para suponer que su monopolio estatal era legitim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b) Miseria, desobediencia y repres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844640"/>
            <a:ext cx="8001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el Chile del cambio de siglo, la realidad social conocida y aceptada por las oligarquías se modificara significativament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la década del 1920, la masividad de la organización obrera dejo en evidencia no solo que la represión era ya un mecanismo ineficaz, sino que también que la institucionalidad era insuficiente, y sobre todo, que el Estado ya no podía seguir operando sobre una matriz excluy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Clases</cp:lastModifiedBy>
  <dcterms:modified xsi:type="dcterms:W3CDTF">2010-05-31T14:27:23Z</dcterms:modified>
  <cp:revision>35</cp:revision>
  <dc:subject/>
  <dc:title>La compleja herencia del siglo XIX</dc:title>
</cp:coreProperties>
</file>